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C40-7686-476F-A605-8B9F623B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8B7-8A3A-43D6-A72F-91A6C84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101-E522-4053-B1DF-C7CAA67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DED-341F-403D-A39D-989918F9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8F0-0ACA-4841-9DFC-12CF965D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FE2-04A9-464C-9BF2-F69797EF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18F-D255-4424-8DEB-3858353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03E-0604-4BDF-8485-B44FB4CA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DA1-D719-47BB-B056-CE56244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7ED-2132-4D8E-AFC8-DA29B2A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A68-2156-4199-8C0D-E379795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8AE-887E-4FA1-91DB-C074EBC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FF44-ECA2-42E7-A6CD-9DC1DE85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paration of the purchase function and the payment function for Panera Bread an issue of internal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roll taxes become a liability to the employer when the payroll is pai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ny’s financial statement does not need to fully disclose the nature of its postretirement benefits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ontingent liability is probable and the amount of the liability can be reasonably estimated, it is recorded and dis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a current lia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ment of an interest-bearing note at its matur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734000" y="1676520"/>
          <a:ext cx="434664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1676520"/>
                    <a:ext cx="43466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77520"/>
            <a:ext cx="426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Interest Expense and Cash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to Notes Payable and Interest Expense and a credit to Notes Pay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Notes Payable and a credit to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bit to Cash and credits to Notes Payable and Interest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n employer payroll tax exp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column report used for summarizing the data for each payroll period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’s earnings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bank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 payment controls for payroll include all of the following ex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blank checks in an unlocked and unsupervis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ing and approving all payroll rat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ly controlled access to the check print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special payroll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considered a fringe benefit for an employ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come taxes withh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yroll tax that is paid by both the employer and the employee is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A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unemployment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such as Panera Bread purchase supplies for manufacturing or resale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the payroll for a period will include a credit to Salaries (Wages) Payable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all payroll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taxes pa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less voluntary de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sion plan where the company invests contributions on behalf of the employee during the employee’s working years is calle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benefi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1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contribu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to not disclose or record a contingent liability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ossible and not esti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32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carries an interest rate of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0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4114800" cy="1630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85716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, Bella Salon Company issued a 60-day note with a face amount of $60,000 to Delilah Hair Products Company for merchandise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47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8"/>
          <p:cNvSpPr/>
          <p:nvPr/>
        </p:nvSpPr>
        <p:spPr>
          <a:xfrm>
            <a:off x="457200" y="3006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74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eds of the note, assuming the note is discounted at 6%,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6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0" y="0"/>
            <a:ext cx="4419360" cy="457200"/>
            <a:chOff x="0" y="0"/>
            <a:chExt cx="4419360" cy="45720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 Exercise 10-1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4114800" cy="1752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755640"/>
            <a:ext cx="8305920" cy="30751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Dunn’s weekly gross earnings for the week ending December 3 were $2,250, and her federal income tax withholding was $466.19. Prior to this week, Dunn had earned $98,000 for the year. Assuming the social security rate is 6% on the first $100,000 of annual earnings and Medicare is 1.5% of all earnings, what is Dunn’s net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3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83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5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6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514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63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83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75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870120"/>
            <a:ext cx="8305920" cy="45770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-Rite Inc. sold $140,000 of kitchen appliances during August under a six-month warranty. The cost to repair defects under the warranty is estimated at 6% of the sales price. On September 11, a customer required a $200 part replacement, plus $90 of labor under the warra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anc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Product Warranty Payabl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(a) the estimate and (b) the September replacement was $8,1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companies that extend credit consider the risk of nonpay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808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10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the terms of “short-term credit” vary by comp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ll companies have the same types of current liabilities like Panera B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liabilities are obligations that will be paid out of current assets and are due within a short time, usually within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arnings of an employee for a payroll period less employer payroll tax expenses is called net 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ntrols should be in place for processing and paying a company’s pay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internal control feature is to not have a special payrol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20:57Z</dcterms:created>
  <dc:creator> </dc:creator>
  <dc:description/>
  <dc:language>en-US</dc:language>
  <cp:lastModifiedBy>Leslie</cp:lastModifiedBy>
  <dcterms:modified xsi:type="dcterms:W3CDTF">2008-12-30T03:07:27Z</dcterms:modified>
  <cp:revision>29</cp:revision>
  <dc:subject/>
  <dc:title>Is the separation of the duties of the purchase function and the payment function for Panera Bread an issue of internal control?</dc:title>
</cp:coreProperties>
</file>